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762-5CE6-4200-A90E-14CE6548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ECA-8D8D-47BF-918F-A9709B3F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38A-6C86-4952-BF78-DAC5FD0C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0F6-4A1E-4397-B5EA-AAF9FFD5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A53-E2B1-42ED-8D20-21739ECA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6399-16DD-4B4A-837D-4B6E0D1F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026-7143-49B0-85E4-268F28F0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6B9-5E12-4365-B453-3A913CF5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784-74B8-49B2-BF5A-13509E99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BE3-AF89-4BF2-8677-2518D859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003-6840-4C99-965F-BB9B653B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686-1201-43FD-A924-23DF3287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91BC-0A93-458E-AD4E-2093F63134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ransferring Water from One Place to Anoth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888000" y="1851120"/>
            <a:ext cx="5256000" cy="4591440"/>
            <a:chOff x="3888000" y="1851120"/>
            <a:chExt cx="5256000" cy="4591440"/>
          </a:xfrm>
        </p:grpSpPr>
        <p:grpSp>
          <p:nvGrpSpPr>
            <p:cNvPr id="195" name=""/>
            <p:cNvGrpSpPr/>
            <p:nvPr/>
          </p:nvGrpSpPr>
          <p:grpSpPr>
            <a:xfrm>
              <a:off x="3888000" y="1851120"/>
              <a:ext cx="5256000" cy="4591440"/>
              <a:chOff x="3888000" y="1851120"/>
              <a:chExt cx="5256000" cy="4591440"/>
            </a:xfrm>
          </p:grpSpPr>
          <p:sp>
            <p:nvSpPr>
              <p:cNvPr id="196" name=""/>
              <p:cNvSpPr/>
              <p:nvPr/>
            </p:nvSpPr>
            <p:spPr>
              <a:xfrm>
                <a:off x="4007520" y="3262320"/>
                <a:ext cx="909360" cy="422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North B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0760" y="1851120"/>
                <a:ext cx="4143240" cy="452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4151160" y="3956040"/>
                <a:ext cx="935280" cy="422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outh B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88000" y="4622760"/>
                <a:ext cx="163008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alifornia 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091480" y="2125800"/>
                <a:ext cx="1119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LIFOR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549120" y="2298600"/>
                <a:ext cx="82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VAD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934400" y="2351160"/>
                <a:ext cx="60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TA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172360" y="616608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823520" y="4859280"/>
                <a:ext cx="13086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ntral Arizo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90240" y="5540400"/>
                <a:ext cx="127512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lorado 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88640" y="4392720"/>
                <a:ext cx="1089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s Ange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59120" y="2446560"/>
                <a:ext cx="103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asta Lak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99880" y="3160800"/>
                <a:ext cx="105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acrame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68520" y="3890880"/>
                <a:ext cx="689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res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75200" y="5324400"/>
                <a:ext cx="775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eni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221680" y="5818320"/>
                <a:ext cx="723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ucs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240760" y="4510080"/>
                <a:ext cx="87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IZO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342640" y="4146480"/>
                <a:ext cx="801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Colorad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31360" y="2573280"/>
                <a:ext cx="1005120" cy="4590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Sacrame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957480" y="3659400"/>
                <a:ext cx="12261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n Francis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585400" y="5089680"/>
                <a:ext cx="108900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Los Ange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817960" y="5480280"/>
                <a:ext cx="9273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n Dieg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076720" y="2710080"/>
                <a:ext cx="50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914360" y="3403800"/>
                <a:ext cx="6670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949280" y="3559320"/>
                <a:ext cx="406440" cy="182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46760" y="3672000"/>
                <a:ext cx="591840" cy="415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140080" y="3888000"/>
                <a:ext cx="546120" cy="54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5243040" y="4192560"/>
                <a:ext cx="763560" cy="501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H="1" flipV="1">
              <a:off x="7211520" y="5237280"/>
              <a:ext cx="9540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600" y="1527120"/>
            <a:ext cx="487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 trans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664000"/>
            <a:ext cx="40165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lifornia Water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410000"/>
            <a:ext cx="4184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entra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izona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00" y="6156360"/>
            <a:ext cx="2958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ames B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6502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3.13, p. 3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apping Ground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4840" y="1630440"/>
            <a:ext cx="402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ear-round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3040" y="2930400"/>
            <a:ext cx="531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 evaporation lo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4840" y="4232160"/>
            <a:ext cx="497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ten less expe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4480" y="5533920"/>
            <a:ext cx="493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tential Problem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blems with Using Groundwat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00" y="1474920"/>
            <a:ext cx="867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table lowering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3-15 p. 307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0" y="2343240"/>
            <a:ext cx="616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pletion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3-16 p. 308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80" y="3211560"/>
            <a:ext cx="663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idence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3-16 p. 308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20" y="4081320"/>
            <a:ext cx="8268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ltwater intrusion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3-17 p. 308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00" y="4950000"/>
            <a:ext cx="594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conta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80" y="5819760"/>
            <a:ext cx="539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d stream fl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59680" y="5472000"/>
            <a:ext cx="27320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ase Stud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3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nverting Salt Water to Fresh Water and Making it Rai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5960" y="1787400"/>
            <a:ext cx="578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tillation desal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6680" y="3097080"/>
            <a:ext cx="689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verse osmosis desal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5960" y="4406760"/>
            <a:ext cx="6968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salination is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very expe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6680" y="5718240"/>
            <a:ext cx="369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oud see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sing Water More Efficient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40" y="1479600"/>
            <a:ext cx="619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 losses due to lea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00" y="2376360"/>
            <a:ext cx="433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form water la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80" y="3273480"/>
            <a:ext cx="9085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e irrigation efficienc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13-19 p. 311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80" y="4232160"/>
            <a:ext cx="769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ing manufacturing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20" y="5129280"/>
            <a:ext cx="601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ter efficient landsca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40" y="6027840"/>
            <a:ext cx="5732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ter efficient appli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oo Much Water:  Floo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80" y="1544760"/>
            <a:ext cx="452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ural phenom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600" y="3613320"/>
            <a:ext cx="9104400" cy="3244680"/>
            <a:chOff x="39600" y="3613320"/>
            <a:chExt cx="9104400" cy="324468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39600" y="3613320"/>
              <a:ext cx="9104400" cy="32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29920" y="5919840"/>
              <a:ext cx="17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oodpl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80920" y="516096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v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47960" y="54007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40920" y="5235480"/>
              <a:ext cx="1009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97480" y="547380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09640" y="434484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54400" y="43308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14600" y="3672000"/>
              <a:ext cx="15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rvo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4027320" y="3987720"/>
              <a:ext cx="25416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080" y="2479680"/>
            <a:ext cx="4720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new and replen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4560" y="1738440"/>
            <a:ext cx="3889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gravated by human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4380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3.22, p. 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Achieving a More Sustainable Water Futur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1706400"/>
            <a:ext cx="470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icient irri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9640" y="3165480"/>
            <a:ext cx="6347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-saving technolo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" y="4624560"/>
            <a:ext cx="723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ing water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97480" y="5818320"/>
            <a:ext cx="554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ee Fig. 13-26 p. 3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0" y="1792440"/>
            <a:ext cx="695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hysical properties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20" y="2768760"/>
            <a:ext cx="574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ility of fresh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" y="3745080"/>
            <a:ext cx="885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thods of increasing freshwater supp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" y="4721400"/>
            <a:ext cx="6151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ing water more efficien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00" y="5697360"/>
            <a:ext cx="727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blems associated with floo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’s Unique Propert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3360" y="1214280"/>
            <a:ext cx="430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ydrogen bo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5160" y="1916280"/>
            <a:ext cx="773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quid over wide temperature 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3720" y="2617920"/>
            <a:ext cx="619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nges temperature slow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4440" y="3319560"/>
            <a:ext cx="5493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heat of evap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4440" y="4021200"/>
            <a:ext cx="5150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at dissolving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080" y="4722840"/>
            <a:ext cx="123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640" y="5424480"/>
            <a:ext cx="5103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hesion and cohe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720" y="6127920"/>
            <a:ext cx="5342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ands when it freez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ly of Water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9200" y="1446120"/>
            <a:ext cx="8985960" cy="4201200"/>
            <a:chOff x="79200" y="1446120"/>
            <a:chExt cx="8985960" cy="42012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79200" y="2525400"/>
              <a:ext cx="2751120" cy="2934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4368600" y="2541600"/>
              <a:ext cx="2754360" cy="2925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9" name=""/>
            <p:cNvSpPr/>
            <p:nvPr/>
          </p:nvSpPr>
          <p:spPr>
            <a:xfrm>
              <a:off x="552960" y="1446120"/>
              <a:ext cx="1806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esh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46920" y="1446120"/>
              <a:ext cx="4518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adily accessible fresh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79840" y="2055600"/>
              <a:ext cx="13831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i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01960" y="3122280"/>
              <a:ext cx="13831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v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22160" y="4456080"/>
              <a:ext cx="2043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tmospher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ater vap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95480" y="290664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L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0007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44760" y="4011480"/>
              <a:ext cx="146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S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mois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000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48200" y="2043000"/>
              <a:ext cx="20782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round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59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6160" y="3914640"/>
              <a:ext cx="1959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Ice ca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and glac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59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2825640" y="2896560"/>
              <a:ext cx="2006640" cy="1874880"/>
              <a:chOff x="2825640" y="2896560"/>
              <a:chExt cx="2006640" cy="1874880"/>
            </a:xfrm>
          </p:grpSpPr>
          <p:sp>
            <p:nvSpPr>
              <p:cNvPr id="79" name=""/>
              <p:cNvSpPr/>
              <p:nvPr/>
            </p:nvSpPr>
            <p:spPr>
              <a:xfrm flipV="1">
                <a:off x="2825640" y="2896560"/>
                <a:ext cx="2006640" cy="947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25640" y="3907800"/>
                <a:ext cx="1828800" cy="863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096360" y="369396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0.014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flipH="1">
              <a:off x="1809360" y="2587320"/>
              <a:ext cx="672840" cy="67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711840" y="2612520"/>
              <a:ext cx="46980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50000" y="3235320"/>
              <a:ext cx="74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64120" y="3789360"/>
              <a:ext cx="469800" cy="59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3.2, p. 2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rface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2680" y="1577880"/>
            <a:ext cx="380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rface 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1960" y="2871720"/>
            <a:ext cx="3917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iable 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2320" y="4165560"/>
            <a:ext cx="3126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1240" y="5459400"/>
            <a:ext cx="3918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ainage bas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63360" y="1104840"/>
            <a:ext cx="9029880" cy="5753160"/>
            <a:chOff x="63360" y="1104840"/>
            <a:chExt cx="9029880" cy="5753160"/>
          </a:xfrm>
        </p:grpSpPr>
        <p:grpSp>
          <p:nvGrpSpPr>
            <p:cNvPr id="94" name=""/>
            <p:cNvGrpSpPr/>
            <p:nvPr/>
          </p:nvGrpSpPr>
          <p:grpSpPr>
            <a:xfrm>
              <a:off x="63360" y="1104840"/>
              <a:ext cx="9029880" cy="5753160"/>
              <a:chOff x="63360" y="1104840"/>
              <a:chExt cx="9029880" cy="575316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63360" y="1104840"/>
                <a:ext cx="9029880" cy="5743080"/>
                <a:chOff x="63360" y="1104840"/>
                <a:chExt cx="9029880" cy="5743080"/>
              </a:xfrm>
            </p:grpSpPr>
            <p:pic>
              <p:nvPicPr>
                <p:cNvPr id="9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3360" y="1114560"/>
                  <a:ext cx="9029880" cy="57308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" name=""/>
                <p:cNvGrpSpPr/>
                <p:nvPr/>
              </p:nvGrpSpPr>
              <p:grpSpPr>
                <a:xfrm>
                  <a:off x="63360" y="1104840"/>
                  <a:ext cx="9004320" cy="5743080"/>
                  <a:chOff x="63360" y="1104840"/>
                  <a:chExt cx="9004320" cy="574308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63360" y="1104840"/>
                    <a:ext cx="0" cy="572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75960" y="1104840"/>
                    <a:ext cx="8979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9067680" y="1104840"/>
                    <a:ext cx="0" cy="3670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3360" y="6845400"/>
                    <a:ext cx="731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V="1">
                    <a:off x="7394400" y="4774680"/>
                    <a:ext cx="1673280" cy="207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3" name=""/>
              <p:cNvSpPr/>
              <p:nvPr/>
            </p:nvSpPr>
            <p:spPr>
              <a:xfrm flipV="1">
                <a:off x="7378560" y="5423040"/>
                <a:ext cx="0" cy="143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7391160" y="4584600"/>
                <a:ext cx="1041480" cy="81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158880" y="5410080"/>
                <a:ext cx="121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866960" y="4381560"/>
              <a:ext cx="296640" cy="507960"/>
            </a:xfrm>
            <a:prstGeom prst="downArrow">
              <a:avLst>
                <a:gd name="adj1" fmla="val 50000"/>
                <a:gd name="adj2" fmla="val 4280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7100000">
              <a:off x="3340440" y="3287880"/>
              <a:ext cx="297000" cy="507960"/>
            </a:xfrm>
            <a:prstGeom prst="downArrow">
              <a:avLst>
                <a:gd name="adj1" fmla="val 50000"/>
                <a:gd name="adj2" fmla="val 4275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21240" y="4927680"/>
              <a:ext cx="296640" cy="761760"/>
            </a:xfrm>
            <a:prstGeom prst="downArrow">
              <a:avLst>
                <a:gd name="adj1" fmla="val 50000"/>
                <a:gd name="adj2" fmla="val 6419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4749840" y="2577960"/>
              <a:ext cx="309600" cy="2082960"/>
            </a:xfrm>
            <a:prstGeom prst="downArrow">
              <a:avLst>
                <a:gd name="adj1" fmla="val 50000"/>
                <a:gd name="adj2" fmla="val 16819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800000">
              <a:off x="5752800" y="2577600"/>
              <a:ext cx="309240" cy="1892520"/>
            </a:xfrm>
            <a:prstGeom prst="downArrow">
              <a:avLst>
                <a:gd name="adj1" fmla="val 50000"/>
                <a:gd name="adj2" fmla="val 15299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800000">
              <a:off x="6730920" y="2577960"/>
              <a:ext cx="309600" cy="1625760"/>
            </a:xfrm>
            <a:prstGeom prst="downArrow">
              <a:avLst>
                <a:gd name="adj1" fmla="val 50000"/>
                <a:gd name="adj2" fmla="val 13127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7785000" y="3085920"/>
              <a:ext cx="309600" cy="1663920"/>
            </a:xfrm>
            <a:prstGeom prst="downArrow">
              <a:avLst>
                <a:gd name="adj1" fmla="val 50000"/>
                <a:gd name="adj2" fmla="val 134360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18160" y="2271600"/>
              <a:ext cx="251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poration and transpi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59840" y="2766960"/>
              <a:ext cx="113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00560" y="450684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60640" y="507852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19320" y="481176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 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8200" y="474804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25800" y="540864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confined 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07440" y="6030720"/>
              <a:ext cx="148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ned 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04080" y="4913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165560" y="2717640"/>
              <a:ext cx="0" cy="21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33280" y="2411280"/>
              <a:ext cx="191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l requiring a p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984400" y="1980720"/>
              <a:ext cx="0" cy="287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92560" y="144612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tesian w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8000" y="37958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unof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1040" y="201780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cipi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20" y="2894040"/>
              <a:ext cx="143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harge 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83480" y="441792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568680" y="5130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724480" y="5844960"/>
              <a:ext cx="2530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029040" y="5844960"/>
              <a:ext cx="2530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92680" y="5514840"/>
              <a:ext cx="2534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197600" y="5514840"/>
              <a:ext cx="2534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0440" y="6183360"/>
              <a:ext cx="2264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ess permeable mater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uch as c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68880" y="6487920"/>
              <a:ext cx="29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firming permeable rock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ound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065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701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3.3, p. 2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se of Water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0" y="1546200"/>
            <a:ext cx="8733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s use about 50% of reliable run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60" y="2430360"/>
            <a:ext cx="291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0" y="3314880"/>
            <a:ext cx="2333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us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00" y="4199040"/>
            <a:ext cx="243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me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0" y="5084640"/>
            <a:ext cx="3182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w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689280" y="2273400"/>
            <a:ext cx="3603960" cy="4460040"/>
            <a:chOff x="3689280" y="2273400"/>
            <a:chExt cx="3603960" cy="44600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rcRect l="0" t="0" r="54686" b="0"/>
            <a:stretch/>
          </p:blipFill>
          <p:spPr>
            <a:xfrm>
              <a:off x="3689280" y="2975040"/>
              <a:ext cx="3533760" cy="25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390920" y="2273400"/>
              <a:ext cx="212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98440" y="579132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ustry 1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03320" y="627372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ublic 1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81600" y="3489120"/>
              <a:ext cx="996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o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8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59040" y="3286080"/>
              <a:ext cx="140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8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3800" y="5141880"/>
              <a:ext cx="0" cy="596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97560" y="5141880"/>
              <a:ext cx="0" cy="101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3.5, p. 2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oo Little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600" y="1527120"/>
            <a:ext cx="318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y clim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960" y="2689200"/>
            <a:ext cx="258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ough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240" y="3852720"/>
            <a:ext cx="308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ss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960" y="5016600"/>
            <a:ext cx="3353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76840" y="1320840"/>
            <a:ext cx="5179680" cy="32688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900600" y="4479840"/>
            <a:ext cx="5130720" cy="2132640"/>
            <a:chOff x="3900600" y="4479840"/>
            <a:chExt cx="5130720" cy="213264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900600" y="4514760"/>
              <a:ext cx="67608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664880" y="447984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cute shor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5600" y="495936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equate 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66320" y="54608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hor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65600" y="5908680"/>
              <a:ext cx="436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tropolitan regions with population greater than 1 mil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8096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3.8, p. 2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sing Dams and Reservoirs to Supply More Wat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01520" y="1631880"/>
            <a:ext cx="9042480" cy="5150520"/>
            <a:chOff x="101520" y="1631880"/>
            <a:chExt cx="9042480" cy="515052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101520" y="3222720"/>
              <a:ext cx="8839440" cy="30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65280" y="2394000"/>
              <a:ext cx="177624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arge lo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f water throu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apo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35320" y="1708200"/>
              <a:ext cx="252720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looded land destroys forests or cropla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places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08640" y="2604960"/>
              <a:ext cx="234468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ownstream flooding is re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34120" y="1631880"/>
              <a:ext cx="274788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ownstream cropla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stuaries are deprived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utrient-rich si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8520" y="4618080"/>
              <a:ext cx="2469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oir is useful for recreation and fis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7920" y="5884920"/>
              <a:ext cx="4546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n produce cheap electri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hydropow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57280" y="6445080"/>
              <a:ext cx="5383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gration and spawning of some fish are disru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90440" y="5156280"/>
              <a:ext cx="1622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vides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r year-r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rrigation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ropl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531800" y="3171960"/>
              <a:ext cx="0" cy="9396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602160" y="2650680"/>
              <a:ext cx="0" cy="16131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5784840" y="3073320"/>
              <a:ext cx="992160" cy="19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615080" y="2574720"/>
              <a:ext cx="0" cy="23367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759040" y="4452840"/>
              <a:ext cx="1254240" cy="4701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579920" y="5021280"/>
              <a:ext cx="836640" cy="7920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815160" y="5165640"/>
              <a:ext cx="0" cy="13082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6911640" y="5103000"/>
              <a:ext cx="431640" cy="24912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43800" y="6494400"/>
              <a:ext cx="16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. 13.9, p. 3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Christopher Ota</cp:lastModifiedBy>
  <dcterms:modified xsi:type="dcterms:W3CDTF">2001-08-10T19:54:15Z</dcterms:modified>
  <cp:revision>33</cp:revision>
  <dc:subject/>
  <dc:title>PowerPoint Presentation</dc:title>
</cp:coreProperties>
</file>